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0F26-6E5E-4442-B967-33AE13636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pink pages and go over these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pink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E459-7175-47C0-9745-D93D5E80B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799D-5A48-409E-9EB6-ED77587F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8400-47DC-4D7E-AB2F-A820F994F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FF3D-5C98-4260-808B-1B31612D5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1E43-7830-4D08-8260-4864B265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E972-094F-4CB0-A734-D34C1E83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D6CB-15DB-499F-B338-C45487DF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F47E-5243-4B58-82E5-4C5BC533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9830-5D6E-434A-8271-A4B45E6A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2232-235B-439B-9856-FF605BD6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678C-59D6-42EF-899D-561A036E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B45D-C6B8-42B0-BBBF-63AE6293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E18D-963F-4D8C-978B-4A6995C96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5286302&amp;memlevel=A&amp;a=c&amp;q=reading%20books&amp;k_mode=all&amp;s=1&amp;e=18&amp;show=&amp;c=&amp;cid=&amp;findincat=&amp;g=&amp;cc=244:3:154:7:6:105:65&amp;page=&amp;k_exc=&amp;pubid=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2796204&amp;memlevel=C&amp;a=c&amp;q=wondering&amp;k_mode=all&amp;s=1&amp;e=18&amp;show=&amp;c=&amp;cid=&amp;findincat=&amp;g=&amp;cc=431:3:595:3:14:18:236&amp;page=&amp;k_exc=&amp;pubid=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2912250&amp;memlevel=C&amp;a=c&amp;q=bullseye&amp;k_mode=all&amp;s=1&amp;e=18&amp;show=&amp;c=&amp;cid=&amp;findincat=&amp;g=&amp;cc=116:11:19:0:2:16:2&amp;page=&amp;k_exc=&amp;pubid=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3112229&amp;memlevel=C&amp;a=c&amp;q=library&amp;k_mode=all&amp;s=883&amp;e=900&amp;show=&amp;c=&amp;cid=&amp;findincat=&amp;g=&amp;cc=921:1:345:30:3:743:55&amp;page=50&amp;k_exc=&amp;pubid=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2922589&amp;memlevel=C&amp;a=c&amp;q=reading%20books&amp;k_mode=all&amp;s=1&amp;e=18&amp;show=&amp;c=&amp;cid=&amp;findincat=&amp;g=&amp;cc=244:3:154:7:6:105:65&amp;page=&amp;k_exc=&amp;pubid=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3944432&amp;memlevel=A&amp;a=c&amp;q=library&amp;k_mode=all&amp;s=1&amp;e=18&amp;show=&amp;c=&amp;cid=&amp;findincat=&amp;g=&amp;cc=921:1:345:30:3:743:55&amp;page=&amp;k_exc=&amp;pubid=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3778995&amp;memlevel=A&amp;a=c&amp;q=music%20notes&amp;k_mode=all&amp;s=1&amp;e=18&amp;show=&amp;c=&amp;cid=&amp;findincat=&amp;g=&amp;cc=1090:33:68:8:20:95:11&amp;page=&amp;k_exc=&amp;pubid=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3702059&amp;memlevel=A&amp;a=c&amp;q=thumb&amp;k_mode=all&amp;s=1&amp;e=18&amp;show=&amp;c=&amp;cid=&amp;findincat=&amp;g=&amp;cc=547:19:258:7:27:195:281&amp;page=&amp;k_exc=&amp;pubid=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lf-Selected Reading Bl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228600" y="30481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5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34320" y="4267080"/>
            <a:ext cx="1752480" cy="2362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429680" cy="1486080"/>
          </a:xfrm>
          <a:prstGeom prst="rect">
            <a:avLst/>
          </a:prstGeom>
          <a:ln w="0">
            <a:noFill/>
          </a:ln>
        </p:spPr>
      </p:pic>
      <p:pic>
        <p:nvPicPr>
          <p:cNvPr id="53" name="block2" descr=""/>
          <p:cNvPicPr/>
          <p:nvPr/>
        </p:nvPicPr>
        <p:blipFill>
          <a:blip r:embed="rId4"/>
          <a:stretch/>
        </p:blipFill>
        <p:spPr>
          <a:xfrm>
            <a:off x="609480" y="4419720"/>
            <a:ext cx="18496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er’s Ch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 few children take a turn every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sources of reluctance in some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various possible respon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sincere questions and appropriate pra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this experience a book report for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ist on a particular form of the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 type of text that can be sha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324480" y="0"/>
            <a:ext cx="19479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e Ways to Read and Wr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memory, pictures, words,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able text + familiar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ons + familiar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dictating, scribbling, drawing, AAC symbols, letters, ear-spelling, words,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467480" y="3962520"/>
            <a:ext cx="1371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an they do without a teac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a book on CD, in a slide carousel, in a talking word processor, or other adapted form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 to a peer read aloud to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with a peer (chorally, in turns, silently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in a journal or dictate to someone el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in  a peer group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-term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media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"/>
            <a:ext cx="10954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ELSE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email with peer(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 the “net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aloud via AAC device to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that you have prepared for independent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tu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562720" y="3962520"/>
            <a:ext cx="12952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MMMM for Lite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ess: 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teraction: blessings, peers, reader’s chair, con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els: read-alouds in a wide variety of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erials: appropriate, interesting, numerous (20:1), va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utes: 10 of silent reading, 30 to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ivation: intrinsic, NOT extrin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15210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s the odds that students choose to read once they are 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s competence in skimming, scanning, sampling, selecting appropriate and interesting boo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s competence in sharing interests and excitement about 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s fluency in application of skills learned in guided reading and words b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152280"/>
            <a:ext cx="20574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Core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-Alouds(10-15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R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-lessons/focused discu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er con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er’s Chair (sharing) (5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00800" y="2286000"/>
            <a:ext cx="1066680" cy="1600200"/>
          </a:xfrm>
          <a:custGeom>
            <a:avLst/>
            <a:gdLst>
              <a:gd name="textAreaLeft" fmla="*/ 0 w 1066680"/>
              <a:gd name="textAreaRight" fmla="*/ 385200 w 10666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62720" y="289548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5-20 minu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-Alou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loud daily from a variety of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 students how to listen to s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urposes for list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the texts to the students’ experi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the book available after the read-alou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stories you don’t enjoy your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urage questions and com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too f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ist on consensus or correct interpre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477120" y="228600"/>
            <a:ext cx="22096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R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students select several books before begi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with short time and slowly incr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your excitement about something you’re reading and encourage others to do likew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the activity dependent upon good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 reading to books or fi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y how they read, what they read and where they read “on their own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0"/>
            <a:ext cx="26668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e it Accessibl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Point (and other multimedia)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Own Booksh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2590920"/>
            <a:ext cx="28414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e Books for Older Stud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opular song lyrics as tex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song books with single pages for each song,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storybooks with individual lines of lyrics on each page &amp; illustrations (magazine p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magazine articles to create tex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articles on topics of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sentences to reflect text in 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rticle to student and student selects from sentences for the new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28600"/>
            <a:ext cx="1752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Important Mini-Les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mming, scanning, sampling, selec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t doesn’t fit, don’t wear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ys to help peers when sharing a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 of thu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64000" y="3581280"/>
            <a:ext cx="1984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er’s co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records on what authors, topics, text types students li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 similar/related rea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, but don’t legislate, choice and 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cue-analysis period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this experience a book report for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ist on a particular form of the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 type of text that can be sha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781680" y="533520"/>
            <a:ext cx="17528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16:58:31Z</dcterms:created>
  <dc:creator>marshallp</dc:creator>
  <dc:description/>
  <dc:language>en-US</dc:language>
  <cp:lastModifiedBy>marshallp</cp:lastModifiedBy>
  <dcterms:modified xsi:type="dcterms:W3CDTF">2008-07-30T18:40:07Z</dcterms:modified>
  <cp:revision>4</cp:revision>
  <dc:subject/>
  <dc:title>Self-Selected Reading Block</dc:title>
</cp:coreProperties>
</file>